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680-56A5-416F-AC7D-29955260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07E-6738-413A-9D4F-99567E8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3C4-E8BE-433F-8AED-35DE8B11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76B-5525-429A-83B4-9FE7B0B7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539-3BFE-4820-82EE-E61EFF3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0A6-4DEF-42B7-AED0-5ACBE98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337-A076-4514-9BBF-2037238E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76F-EA69-4F15-ADA5-7B05F94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D99-A6FF-42A4-BE32-4CF416AD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098-BF16-40C7-9AEF-E8EA16FA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2F5-1616-45DF-9E6B-C70186E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276-B494-498E-9E8A-319B58D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EAE-6724-430D-97DA-9412A2D63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209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SKY018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Nature_0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natyre_212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1785960" y="3000240"/>
            <a:ext cx="5472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ОЯСА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857240" y="4857840"/>
            <a:ext cx="5357880" cy="642600"/>
          </a:xfrm>
          <a:prstGeom prst="rect">
            <a:avLst/>
          </a:prstGeom>
          <a:solidFill>
            <a:srgbClr val="bbe0e3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втор презентации – учитель МБОУ МАРИНИНСКАЯ СОШ №16 Токманце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SKY018"/>
          <p:cNvPicPr/>
          <p:nvPr/>
        </p:nvPicPr>
        <p:blipFill>
          <a:blip r:embed="rId1"/>
          <a:stretch/>
        </p:blipFill>
        <p:spPr>
          <a:xfrm>
            <a:off x="5724360" y="429264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209"/>
          <p:cNvPicPr/>
          <p:nvPr/>
        </p:nvPicPr>
        <p:blipFill>
          <a:blip r:embed="rId2"/>
          <a:stretch/>
        </p:blipFill>
        <p:spPr>
          <a:xfrm>
            <a:off x="5796000" y="404640"/>
            <a:ext cx="3024000" cy="226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Nature_07"/>
          <p:cNvPicPr/>
          <p:nvPr/>
        </p:nvPicPr>
        <p:blipFill>
          <a:blip r:embed="rId3"/>
          <a:stretch/>
        </p:blipFill>
        <p:spPr>
          <a:xfrm>
            <a:off x="3851280" y="22939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PHOTOGR2"/>
          <p:cNvPicPr/>
          <p:nvPr/>
        </p:nvPicPr>
        <p:blipFill>
          <a:blip r:embed="rId4"/>
          <a:stretch/>
        </p:blipFill>
        <p:spPr>
          <a:xfrm>
            <a:off x="0" y="2781360"/>
            <a:ext cx="3213000" cy="3744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4"/>
          <p:cNvSpPr/>
          <p:nvPr/>
        </p:nvSpPr>
        <p:spPr>
          <a:xfrm>
            <a:off x="324000" y="404640"/>
            <a:ext cx="4572000" cy="1729080"/>
          </a:xfrm>
          <a:prstGeom prst="wedgeEllipseCallout">
            <a:avLst>
              <a:gd name="adj1" fmla="val -24199"/>
              <a:gd name="adj2" fmla="val 101884"/>
            </a:avLst>
          </a:prstGeom>
          <a:solidFill>
            <a:srgbClr val="cc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каких районах Земли сделаны фот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2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очему различна природа этих райо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003640" y="1733400"/>
            <a:ext cx="3675240" cy="33894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8"/>
          <p:cNvGrpSpPr/>
          <p:nvPr/>
        </p:nvGrpSpPr>
        <p:grpSpPr>
          <a:xfrm>
            <a:off x="2916360" y="1989000"/>
            <a:ext cx="3887640" cy="2952720"/>
            <a:chOff x="2916360" y="1989000"/>
            <a:chExt cx="3887640" cy="2952720"/>
          </a:xfrm>
        </p:grpSpPr>
        <p:sp>
          <p:nvSpPr>
            <p:cNvPr id="54" name="Line 7"/>
            <p:cNvSpPr/>
            <p:nvPr/>
          </p:nvSpPr>
          <p:spPr>
            <a:xfrm>
              <a:off x="2916360" y="3429000"/>
              <a:ext cx="20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2916360" y="3789360"/>
              <a:ext cx="2376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2916360" y="4221000"/>
              <a:ext cx="2447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2916360" y="4653000"/>
              <a:ext cx="2735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2916360" y="4941720"/>
              <a:ext cx="3510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2916360" y="3068640"/>
              <a:ext cx="2376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2916360" y="2637000"/>
              <a:ext cx="2592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2916360" y="2276640"/>
              <a:ext cx="2950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916360" y="1989000"/>
              <a:ext cx="3887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612720" y="1160640"/>
            <a:ext cx="3344760" cy="4535280"/>
            <a:chOff x="-612720" y="1160640"/>
            <a:chExt cx="3344760" cy="4535280"/>
          </a:xfrm>
        </p:grpSpPr>
        <p:pic>
          <p:nvPicPr>
            <p:cNvPr id="64" name="Picture 6" descr="Рисунок5"/>
            <p:cNvPicPr/>
            <p:nvPr/>
          </p:nvPicPr>
          <p:blipFill>
            <a:blip r:embed="rId2"/>
            <a:srcRect l="38937" t="0" r="0" b="0"/>
            <a:stretch/>
          </p:blipFill>
          <p:spPr>
            <a:xfrm>
              <a:off x="-38160" y="1160640"/>
              <a:ext cx="277020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16"/>
            <p:cNvSpPr/>
            <p:nvPr/>
          </p:nvSpPr>
          <p:spPr>
            <a:xfrm>
              <a:off x="-612720" y="2312640"/>
              <a:ext cx="2158920" cy="2160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19"/>
          <p:cNvSpPr/>
          <p:nvPr/>
        </p:nvSpPr>
        <p:spPr>
          <a:xfrm>
            <a:off x="5364000" y="2852640"/>
            <a:ext cx="288000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3"/>
          <p:cNvGrpSpPr/>
          <p:nvPr/>
        </p:nvGrpSpPr>
        <p:grpSpPr>
          <a:xfrm>
            <a:off x="6390720" y="1127160"/>
            <a:ext cx="2459520" cy="1229040"/>
            <a:chOff x="6390720" y="1127160"/>
            <a:chExt cx="2459520" cy="1229040"/>
          </a:xfrm>
        </p:grpSpPr>
        <p:sp>
          <p:nvSpPr>
            <p:cNvPr id="68" name="Oval 20"/>
            <p:cNvSpPr/>
            <p:nvPr/>
          </p:nvSpPr>
          <p:spPr>
            <a:xfrm>
              <a:off x="7380360" y="2060640"/>
              <a:ext cx="217440" cy="216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 rot="1248000">
              <a:off x="6374520" y="1557360"/>
              <a:ext cx="24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ff"/>
                  </a:solidFill>
                  <a:latin typeface="Arial"/>
                </a:rPr>
                <a:t>СЕВЕРНЫЙ ПОЛЮ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5002560" y="4761000"/>
            <a:ext cx="2162520" cy="1015560"/>
            <a:chOff x="5002560" y="4761000"/>
            <a:chExt cx="2162520" cy="1015560"/>
          </a:xfrm>
        </p:grpSpPr>
        <p:sp>
          <p:nvSpPr>
            <p:cNvPr id="71" name="Oval 21"/>
            <p:cNvSpPr/>
            <p:nvPr/>
          </p:nvSpPr>
          <p:spPr>
            <a:xfrm>
              <a:off x="6156360" y="4797360"/>
              <a:ext cx="217440" cy="2160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 rot="1079400">
              <a:off x="5006520" y="508464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66"/>
                  </a:solidFill>
                  <a:latin typeface="Arial"/>
                </a:rPr>
                <a:t>ЮЖНЫЙ ПОЛЮ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7"/>
          <p:cNvSpPr/>
          <p:nvPr/>
        </p:nvSpPr>
        <p:spPr>
          <a:xfrm>
            <a:off x="395280" y="260280"/>
            <a:ext cx="828036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неодинаково осве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нагревает разные участк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2"/>
          <p:cNvGrpSpPr/>
          <p:nvPr/>
        </p:nvGrpSpPr>
        <p:grpSpPr>
          <a:xfrm>
            <a:off x="466920" y="1123920"/>
            <a:ext cx="3845880" cy="4504680"/>
            <a:chOff x="466920" y="1123920"/>
            <a:chExt cx="3845880" cy="450468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tretch/>
          </p:blipFill>
          <p:spPr>
            <a:xfrm rot="16200000">
              <a:off x="682560" y="1553760"/>
              <a:ext cx="3389400" cy="36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4"/>
            <p:cNvSpPr/>
            <p:nvPr/>
          </p:nvSpPr>
          <p:spPr>
            <a:xfrm>
              <a:off x="900000" y="2849760"/>
              <a:ext cx="2951280" cy="1152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6"/>
            <p:cNvGrpSpPr/>
            <p:nvPr/>
          </p:nvGrpSpPr>
          <p:grpSpPr>
            <a:xfrm>
              <a:off x="466920" y="4613040"/>
              <a:ext cx="2162520" cy="1015560"/>
              <a:chOff x="466920" y="4613040"/>
              <a:chExt cx="2162520" cy="1015560"/>
            </a:xfrm>
          </p:grpSpPr>
          <p:sp>
            <p:nvSpPr>
              <p:cNvPr id="78" name="Oval 7"/>
              <p:cNvSpPr/>
              <p:nvPr/>
            </p:nvSpPr>
            <p:spPr>
              <a:xfrm>
                <a:off x="1620720" y="4649760"/>
                <a:ext cx="217080" cy="2160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8"/>
              <p:cNvSpPr/>
              <p:nvPr/>
            </p:nvSpPr>
            <p:spPr>
              <a:xfrm rot="1079400">
                <a:off x="470880" y="493668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ff0066"/>
                    </a:solidFill>
                    <a:latin typeface="Arial"/>
                  </a:rPr>
                  <a:t>ЮЖНЫЙ ПОЛЮ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9"/>
            <p:cNvGrpSpPr/>
            <p:nvPr/>
          </p:nvGrpSpPr>
          <p:grpSpPr>
            <a:xfrm>
              <a:off x="1853280" y="1123920"/>
              <a:ext cx="2459520" cy="1229040"/>
              <a:chOff x="1853280" y="1123920"/>
              <a:chExt cx="2459520" cy="1229040"/>
            </a:xfrm>
          </p:grpSpPr>
          <p:sp>
            <p:nvSpPr>
              <p:cNvPr id="81" name="Oval 10"/>
              <p:cNvSpPr/>
              <p:nvPr/>
            </p:nvSpPr>
            <p:spPr>
              <a:xfrm>
                <a:off x="2842920" y="2057400"/>
                <a:ext cx="217440" cy="216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1"/>
              <p:cNvSpPr/>
              <p:nvPr/>
            </p:nvSpPr>
            <p:spPr>
              <a:xfrm rot="1248000">
                <a:off x="1837080" y="1554120"/>
                <a:ext cx="249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ff"/>
                    </a:solidFill>
                    <a:latin typeface="Arial"/>
                  </a:rPr>
                  <a:t>СЕВЕРНЫЙ ПОЛЮ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15"/>
          <p:cNvGrpSpPr/>
          <p:nvPr/>
        </p:nvGrpSpPr>
        <p:grpSpPr>
          <a:xfrm>
            <a:off x="3310200" y="3251880"/>
            <a:ext cx="3704400" cy="1433520"/>
            <a:chOff x="3310200" y="3251880"/>
            <a:chExt cx="3704400" cy="1433520"/>
          </a:xfrm>
        </p:grpSpPr>
        <p:sp>
          <p:nvSpPr>
            <p:cNvPr id="84" name="AutoShape 13"/>
            <p:cNvSpPr/>
            <p:nvPr/>
          </p:nvSpPr>
          <p:spPr>
            <a:xfrm rot="1406400">
              <a:off x="3563640" y="3284280"/>
              <a:ext cx="447840" cy="1368360"/>
            </a:xfrm>
            <a:custGeom>
              <a:avLst/>
              <a:gdLst>
                <a:gd name="textAreaLeft" fmla="*/ 0 w 447840"/>
                <a:gd name="textAreaRight" fmla="*/ 314280 w 447840"/>
                <a:gd name="textAreaTop" fmla="*/ 342000 h 1368360"/>
                <a:gd name="textAreaBottom" fmla="*/ 102636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7640" y="3717720"/>
              <a:ext cx="294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ТРОПИЧЕСКИЙ ПОЯ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2823120" y="4551480"/>
            <a:ext cx="4272480" cy="504720"/>
            <a:chOff x="2823120" y="4551480"/>
            <a:chExt cx="4272480" cy="504720"/>
          </a:xfrm>
        </p:grpSpPr>
        <p:sp>
          <p:nvSpPr>
            <p:cNvPr id="87" name="Arc 18"/>
            <p:cNvSpPr/>
            <p:nvPr/>
          </p:nvSpPr>
          <p:spPr>
            <a:xfrm rot="5827200">
              <a:off x="2916000" y="4508280"/>
              <a:ext cx="360360" cy="5061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8" y="0"/>
                    <a:pt x="21598" y="9669"/>
                    <a:pt x="21599" y="21598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8" y="0"/>
                    <a:pt x="21598" y="9669"/>
                    <a:pt x="21599" y="2159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9"/>
            <p:cNvSpPr/>
            <p:nvPr/>
          </p:nvSpPr>
          <p:spPr>
            <a:xfrm>
              <a:off x="3202560" y="4657320"/>
              <a:ext cx="389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8000"/>
                  </a:solidFill>
                  <a:latin typeface="Arial"/>
                </a:rPr>
                <a:t>УМЕРЕННЫЙ ЮЖНЫЙ ПОЯ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3552840" y="2700360"/>
            <a:ext cx="4693680" cy="598320"/>
            <a:chOff x="3552840" y="2700360"/>
            <a:chExt cx="4693680" cy="598320"/>
          </a:xfrm>
        </p:grpSpPr>
        <p:sp>
          <p:nvSpPr>
            <p:cNvPr id="90" name="Arc 23"/>
            <p:cNvSpPr/>
            <p:nvPr/>
          </p:nvSpPr>
          <p:spPr>
            <a:xfrm rot="1900200">
              <a:off x="3635280" y="2781000"/>
              <a:ext cx="432000" cy="4366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fill="none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1"/>
                  </a:cubicBezTo>
                </a:path>
                <a:path stroke="0" w="21392" h="21600">
                  <a:moveTo>
                    <a:pt x="-1" y="0"/>
                  </a:moveTo>
                  <a:cubicBezTo>
                    <a:pt x="10774" y="0"/>
                    <a:pt x="19901" y="7940"/>
                    <a:pt x="21392" y="1861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978360" y="2708280"/>
              <a:ext cx="426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8000"/>
                  </a:solidFill>
                  <a:latin typeface="Arial"/>
                </a:rPr>
                <a:t>УМЕРЕННЫЙ СЕВЕРНЫЙ ПОЯ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7"/>
          <p:cNvSpPr/>
          <p:nvPr/>
        </p:nvSpPr>
        <p:spPr>
          <a:xfrm>
            <a:off x="468360" y="260280"/>
            <a:ext cx="83534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зависимости от освещённости на Зем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личают пояса (пояса освещён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2110680" y="1866600"/>
            <a:ext cx="6564240" cy="894600"/>
            <a:chOff x="2110680" y="1866600"/>
            <a:chExt cx="6564240" cy="894600"/>
          </a:xfrm>
        </p:grpSpPr>
        <p:sp>
          <p:nvSpPr>
            <p:cNvPr id="94" name="Oval 39"/>
            <p:cNvSpPr/>
            <p:nvPr/>
          </p:nvSpPr>
          <p:spPr>
            <a:xfrm rot="1296600">
              <a:off x="2123640" y="2133360"/>
              <a:ext cx="1519200" cy="3603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1"/>
            <p:cNvSpPr/>
            <p:nvPr/>
          </p:nvSpPr>
          <p:spPr>
            <a:xfrm flipV="1">
              <a:off x="3132000" y="2276280"/>
              <a:ext cx="1368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2"/>
            <p:cNvSpPr/>
            <p:nvPr/>
          </p:nvSpPr>
          <p:spPr>
            <a:xfrm>
              <a:off x="4571280" y="20606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СЕВЕРНЫЙ ПОЛЯРНЫЙ ПОЯ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5"/>
          <p:cNvGrpSpPr/>
          <p:nvPr/>
        </p:nvGrpSpPr>
        <p:grpSpPr>
          <a:xfrm>
            <a:off x="1093320" y="4157280"/>
            <a:ext cx="5960520" cy="1537560"/>
            <a:chOff x="1093320" y="4157280"/>
            <a:chExt cx="5960520" cy="1537560"/>
          </a:xfrm>
        </p:grpSpPr>
        <p:sp>
          <p:nvSpPr>
            <p:cNvPr id="98" name="Oval 38"/>
            <p:cNvSpPr/>
            <p:nvPr/>
          </p:nvSpPr>
          <p:spPr>
            <a:xfrm rot="1296600">
              <a:off x="1106280" y="4424040"/>
              <a:ext cx="1519200" cy="3603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0"/>
            <p:cNvSpPr/>
            <p:nvPr/>
          </p:nvSpPr>
          <p:spPr>
            <a:xfrm>
              <a:off x="2195640" y="4797360"/>
              <a:ext cx="108108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43"/>
            <p:cNvSpPr/>
            <p:nvPr/>
          </p:nvSpPr>
          <p:spPr>
            <a:xfrm>
              <a:off x="3325320" y="5295960"/>
              <a:ext cx="37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ЮЖНЫЙ ПОЛЯРНЫЙ ПОЯ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675240" cy="33894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16"/>
          <p:cNvGrpSpPr/>
          <p:nvPr/>
        </p:nvGrpSpPr>
        <p:grpSpPr>
          <a:xfrm>
            <a:off x="826920" y="189000"/>
            <a:ext cx="1828800" cy="1828800"/>
            <a:chOff x="826920" y="189000"/>
            <a:chExt cx="1828800" cy="1828800"/>
          </a:xfrm>
        </p:grpSpPr>
        <p:pic>
          <p:nvPicPr>
            <p:cNvPr id="103" name="Picture 14" descr="j0432589"/>
            <p:cNvPicPr/>
            <p:nvPr/>
          </p:nvPicPr>
          <p:blipFill>
            <a:blip r:embed="rId2"/>
            <a:stretch/>
          </p:blipFill>
          <p:spPr>
            <a:xfrm>
              <a:off x="826920" y="18900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5"/>
            <p:cNvSpPr/>
            <p:nvPr/>
          </p:nvSpPr>
          <p:spPr>
            <a:xfrm>
              <a:off x="1478160" y="69228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66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9"/>
          <p:cNvGrpSpPr/>
          <p:nvPr/>
        </p:nvGrpSpPr>
        <p:grpSpPr>
          <a:xfrm>
            <a:off x="376920" y="2708280"/>
            <a:ext cx="3834720" cy="3705480"/>
            <a:chOff x="376920" y="2708280"/>
            <a:chExt cx="3834720" cy="3705480"/>
          </a:xfrm>
        </p:grpSpPr>
        <p:sp>
          <p:nvSpPr>
            <p:cNvPr id="106" name="Rectangle 7"/>
            <p:cNvSpPr/>
            <p:nvPr/>
          </p:nvSpPr>
          <p:spPr>
            <a:xfrm>
              <a:off x="3924360" y="2781360"/>
              <a:ext cx="287280" cy="28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469440" y="270828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Южный полю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395280" y="3230640"/>
              <a:ext cx="34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Северный полярный кру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396360" y="3716280"/>
              <a:ext cx="220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Южный троп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396720" y="4292640"/>
              <a:ext cx="23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Северный полю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395640" y="4869000"/>
              <a:ext cx="31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Южный полярный кру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396360" y="5445000"/>
              <a:ext cx="132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Эква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376920" y="6014880"/>
              <a:ext cx="25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Arial"/>
                </a:rPr>
                <a:t>Северный троп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3"/>
            <p:cNvSpPr/>
            <p:nvPr/>
          </p:nvSpPr>
          <p:spPr>
            <a:xfrm>
              <a:off x="3924360" y="3284640"/>
              <a:ext cx="287280" cy="28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"/>
            <p:cNvSpPr/>
            <p:nvPr/>
          </p:nvSpPr>
          <p:spPr>
            <a:xfrm>
              <a:off x="3924360" y="3789360"/>
              <a:ext cx="287280" cy="28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3924360" y="4365720"/>
              <a:ext cx="287280" cy="28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>
              <a:off x="3924360" y="4941720"/>
              <a:ext cx="287280" cy="28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7"/>
            <p:cNvSpPr/>
            <p:nvPr/>
          </p:nvSpPr>
          <p:spPr>
            <a:xfrm>
              <a:off x="3924360" y="5445000"/>
              <a:ext cx="287280" cy="28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8"/>
            <p:cNvSpPr/>
            <p:nvPr/>
          </p:nvSpPr>
          <p:spPr>
            <a:xfrm>
              <a:off x="3924360" y="6021360"/>
              <a:ext cx="287280" cy="28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29"/>
          <p:cNvSpPr/>
          <p:nvPr/>
        </p:nvSpPr>
        <p:spPr>
          <a:xfrm>
            <a:off x="3925800" y="429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2608920" y="423720"/>
            <a:ext cx="56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Как следуют с севера на юг 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6351480" y="553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39258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392580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3925800" y="537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925800" y="37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3925800" y="486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3925800" y="270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20:43:22Z</dcterms:created>
  <dc:creator>Comp</dc:creator>
  <dc:description/>
  <dc:language>en-US</dc:language>
  <cp:lastModifiedBy>User</cp:lastModifiedBy>
  <dcterms:modified xsi:type="dcterms:W3CDTF">2017-01-05T03:13:2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